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8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laser.wav" ContentType="audio/x-wav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523-D9B7-49BD-909D-51156ADA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634-2A5C-4262-8865-50DEB257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E3F8C-0EEA-43DE-9C81-468ACBCE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AA233-6F59-4568-95BA-B8B2EBAA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44706-8D50-4B5F-88C8-BFF4968D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9D694-D70E-4CBA-B26A-308C7DFB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B8D6B-286F-47DF-AAD5-9F06A9CD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81182-BD18-4566-898A-32CDEF30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16849-EF42-4592-AFBF-A9D23475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AE5AF-8F24-4637-84B9-6C909C54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D17A3-880B-4EF5-82BB-327EB2FF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86137-4CB2-4C9B-887B-90E11C42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21A-698D-4E9F-9921-A4A241E0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21816-3A48-4FF2-BCD7-39033B85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6EF2A-02F0-455C-B718-7922BB57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FDD17-0A9F-4F2F-95B5-70767CE1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8C34F-D83A-42B4-BBA7-9C71C77C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6E304-3DB7-40C2-AC41-54E1C3AE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776C2-DED5-4767-BDBA-8ED15279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8BEF0-A929-43B2-9773-91822520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77413-830B-4BA4-9C75-473B64E1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F4A2E-B8A3-4D6D-B723-F7B9EF39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21861-73FB-4944-8BB5-975E2669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28B-7577-4C1C-8A1C-9BAEBDFE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66E30-F0B2-42CB-9A50-2B2D3A3A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CBF1D-2AC8-4AA0-B316-27B6C75C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4075B-9419-4F8F-9686-C0C79288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B7CB7-C5F0-42FD-8171-99DD7FD5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68BC2-ABFC-4477-A191-C5978C85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B0848-ACB3-49B1-9DF6-9C04260C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DE18A-829E-45F9-8335-4505CF0D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F5ABC-E0A0-407D-A9A9-E3A07743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BA9F4-312A-4944-9CE5-B3727BDE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6B03E-2C07-47A1-AB81-8C6D397A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FA43-70D0-4188-842D-6A4BFAF1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182D5-6D54-4D6B-89F1-C3DDCE71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4620D-391D-40A8-BC01-3AF9FEC5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9F3CA-6696-4057-8CB3-F16AEBA6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8ED22-8059-4F32-9C4F-B21407B8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A66BD-BA12-47BF-8006-FBEC37B0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65B88-132A-41B5-A51C-502E8595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995B1-B50A-4E52-9FA8-A500DC67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55021-2F16-4BCF-9817-FB67666C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23EEB-EEAA-4674-9256-03AAF37D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EAFFA-96E9-4FFE-B1D3-2FC26548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E59F-2576-431A-B9A6-E12D2472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B45FE-34D4-4393-B1B1-E72B6D36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25C47-6C5F-49AC-9E43-83A75D1F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A56D7-3C2B-4AC7-BE3B-B87B43C8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09C86-15F3-492B-8E7E-DCE4CD7A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B6246-ABFC-49F9-B89C-92DEBFA2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4C134-6D9B-4436-B963-416DB3DB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4E105-3E00-4439-AE93-52EC6807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F33063-D45B-45F8-AAB8-9C4425B7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2E5C7-0EC1-4619-8A71-EAE1B509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88CA0-991F-4721-8FA9-B839DAAA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E438-0417-45E8-AC48-F8821F5F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1B7AD-0C17-42E3-B3A1-4289987B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DA755-458A-46D0-AFDD-75A8AFDB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E64CA-FF71-4E67-8037-53EE9AE1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60B2B-CA6C-437D-B33D-4C192305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1E460-BFB2-48A9-ADA5-36DBDE62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BCA9F-B367-4A95-946D-AD301F94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1B0DB7-9315-41C3-891C-9809C86F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43741-5C95-4BD7-8B9D-962031EC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DD4F8-0A66-404D-B96F-37F360DC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B09B9-BF71-415D-82E1-11738F27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5F64-2EDC-458E-B8E5-EDC96C0D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34A33-B226-4AF5-9D91-AB3185CB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0F11F-718C-4FE9-81BD-884FB01D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EB8980-AC95-4C8D-AE9F-46120980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8F01C-24D9-4766-AC8D-695B01F8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8B50D-9CBD-482B-9768-E8367CEA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90DA3-EBF8-4FE4-9C02-4A5B4C79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2699AB-AAF2-44C3-BB73-00C21F71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F3B18-BC18-45BE-85AB-FE0681A6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85647-9C19-4A7E-91AE-EB9A1D2F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A3FDF-1742-4214-BD38-80723961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CBF6-2340-47AB-9E7F-0556482B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1BCAA1-5DEC-40AB-B722-3791E754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FD5FC-116B-4B56-BE2A-0E4BA62A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2335E-14CA-46E2-A3F8-326504E1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670758-9058-4EDA-A82A-E4B1411D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413969-03C1-4741-A7D8-D09576A8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8B0DC-3889-4187-A015-5AD9CB5A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B090D-2D3B-4DE5-A125-7B1162BB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BD2006-FF70-4A9F-88B9-40C53CA0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B2DACE-3D0F-4917-A893-949F722B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A2588-3C7A-41A5-A631-2229250F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5327-9715-4660-A5E8-85D1F3A3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044760-8CC0-49A4-86C3-A4B56B77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8C817-3A59-45CA-A54E-3F2CA6E0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63BCC-90D3-4A57-A316-A2E713A8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E21FA-D492-4B6C-8FD5-BEC26524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76D53F-4C8C-4BD0-930A-A5278879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5BFD46-B5CE-4C93-A21F-08FFB865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6EEDD2-8481-4AA9-A8A9-EDCC424D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08A11F-85F6-44AE-B102-234FE9B4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030268-0CBF-4CA9-A3E8-A9C8298A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5D35C1-6CBD-444B-9A94-99719959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35A0-3742-4E53-9C72-7EF2E605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5B59BA-FC34-4153-8CD8-2BEEA045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A72C9-A1E8-40D6-AAB5-4089D4E3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A8A6A6-49E6-41D4-B64B-A638CC49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F87-16AE-4944-B698-E8252176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76F2-5760-40E0-BF17-4A7B60C1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D51A-2E51-421E-BD5E-954DC63B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9E2D-C48D-4960-B208-7D7CBA4B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E835-3F98-4528-941B-8969C525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6E4C-A529-43B3-956A-89FD7476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AF813-F1B3-4914-BCBC-9CEF18B6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C4FEC-878F-4BE5-96AE-AC0B778B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FB9EA-4D52-4BC6-96E8-3EFB584E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1541E-78D4-4E23-AF41-312C2959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7777C-717F-482E-9E7A-9B2A17A2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299-740B-433E-A75E-D3436C31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63F31-217D-47A6-91F9-87C7FB71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DF1EB-F87E-4862-BE2A-3AF2CB55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CDFC5-520E-4137-81DD-D1F3271F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7D8F7-C2D1-4C78-94FB-AAF4BB4A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0DBDD-138A-47C2-B876-4E0ADE4F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DEE0E-1387-4369-BD27-2DA87F58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0F843-9297-49B4-AC65-A4C76FFE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7A092-8930-4C7F-8812-648C7004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4E7AD6-B89F-4D08-885C-67B468EE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42410D-98FE-405D-A6AC-6BCCEAD5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24CA-673B-4E89-AA33-4FA63ECE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483F7C-FBA9-4960-B6B3-1A5F3A04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B71CB2-BAA5-4C9E-9430-2DB4845B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B49BBE-6721-4DFC-ABF9-22CACC8D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4B29B9-3B78-4A73-8800-90781A49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4B5AF7-0B4B-4D7C-9567-C9BCB28D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9BB6FA-6980-4BAC-B980-BBC0D942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A5FB51-77F5-4674-816B-375E4D65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DFA9A-33DB-4AB5-9390-775940EA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E5F7C-6BBE-48CA-8A71-46F2023E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EC71C-F548-42D7-9C0F-9894F8D3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FA9-8EF5-4356-BC8E-898786FF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2AE94-0455-4403-BC61-DB8D6CBC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43D2A-BBB6-45D4-BC02-FE1B981B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F3E4C-F17A-464B-A0DE-74B81B8D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8C25C-1BBE-481B-A5B4-F5726441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79438-CA20-433A-8098-E3C6C7DD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4F176-544D-4038-9047-2F799BA9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24440-6CCA-4821-BAF4-9D938A81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F2208-752A-4D2F-8F8E-AAFC7C05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012E8-928C-45AE-8438-9DD182D5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3A493-076D-45CB-800A-F1B06AA1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6AA-E7E0-438B-9B3A-7A285AEC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3B495-2AA1-4F12-9EF3-F48E96D7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7815A-AE7B-43E5-B54D-81C298C9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99BBD-370B-48E5-9619-02DCBC38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CAE26-493E-4BA6-9A99-1A28D7D5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D875E-DE48-4DDA-B2BD-1CA95549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BF946-2072-4C30-AB95-9EBF2681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86E6A-916B-45B4-9FFB-EA7AA146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F12B8-6605-4530-916F-2589480A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B49D3-4EB5-4013-BBF2-0A5AF5D3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3BF0E-1440-42C6-AC54-BDC0C105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675-378B-4CB3-A09D-780F1704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D798C-CAFA-4B75-B900-349E1A2B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47C25-85D0-4C4F-AF7D-18D04E64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B624A-50D2-4287-B323-101E053B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C22EB-70E7-4553-9E16-161DD9C4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5FE11-63B3-482A-8FBC-92BA49CB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FFC63-2E65-4AE8-A9B6-D32BF0AD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45255-BD00-4EE3-B199-6CFB8CF3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F1DBA-5F9A-4907-8BB2-6D9CCA1E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61DA2-BB7E-4986-84A4-D1AAB573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2106E-CFEE-4CE5-87D7-CD1910F4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379-9CAE-4C2B-AA79-17EBE737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41D10-8AA0-4BAF-A9EF-86979704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A8320-DE80-475D-8038-783B1613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F6728-0FB4-491C-B4B9-45386B33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D2323-D543-4C25-AA48-0B5E8005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EF198-F126-4714-A462-99444A6F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FE0F0-34E4-47E6-8C58-F4EC541E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6C736-03D7-4A9A-B02A-C57DF097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851A7-2081-4053-9E3F-92397A25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3BEAF-74B4-4604-8F25-C8EDFF17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77B84-743B-47EC-B877-84120627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4C7-F58A-4F28-BB24-B5B83320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CA5D1-E1A2-4B69-B230-75698573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B4278-EBC8-4E9C-A6F2-7B092275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FB8F5-275C-4BFF-B895-3EFC7AEF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6AD46-413F-4584-9F86-0DE4F381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FA18C-AA44-482A-8C1B-6E04F788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DBEF8-F0AC-441B-B5CD-27CBBF58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FB151-3BDA-4D13-A3BF-1C825E9A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56481-A8AB-455C-ADAD-70D3EE96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9BB25-C683-4107-B050-47F5D375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935E4-6165-415A-AA05-61484A07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57D8-4E64-49BB-8458-0C7E1790F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483F-ACF0-47B8-A276-1DB64924D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D60E-E6A3-431D-88C2-96EA91320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8375-0FA3-4425-B64D-67FF951C0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6C3B-986B-421B-8E9E-50D3122A6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A6ED-E65D-4A24-8191-A60C992E1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1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绿色圃中小学教育网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|http://www.lspj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FCF7-B681-4650-916F-B2100C83BC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-105120" y="1311120"/>
            <a:ext cx="9350640" cy="5633280"/>
            <a:chOff x="-105120" y="1311120"/>
            <a:chExt cx="9350640" cy="5633280"/>
          </a:xfrm>
        </p:grpSpPr>
        <p:sp>
          <p:nvSpPr>
            <p:cNvPr id="876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17"/>
            <p:cNvSpPr/>
            <p:nvPr/>
          </p:nvSpPr>
          <p:spPr>
            <a:xfrm flipV="1" rot="18603600">
              <a:off x="642924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18"/>
            <p:cNvSpPr/>
            <p:nvPr/>
          </p:nvSpPr>
          <p:spPr>
            <a:xfrm flipH="1" flipV="1" rot="18391200">
              <a:off x="8519040" y="6616800"/>
              <a:ext cx="795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|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B3F4-0963-40BE-A129-6B561CDA0D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78EB-70CB-4F07-9EF4-0F992370F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绿色圃中小学教育网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|http://www.lspj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7598-7683-4B32-A4E7-443C09F9AEA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103320" y="1308240"/>
            <a:ext cx="9350640" cy="5633280"/>
            <a:chOff x="-103320" y="1308240"/>
            <a:chExt cx="9350640" cy="5633280"/>
          </a:xfrm>
        </p:grpSpPr>
        <p:sp>
          <p:nvSpPr>
            <p:cNvPr id="146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 flipV="1" rot="18603600">
              <a:off x="6431040" y="556020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 flipH="1" flipV="1" rot="18391200">
              <a:off x="8520840" y="6613920"/>
              <a:ext cx="795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A961-B808-42A1-B1DE-15010A60D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85EA-B25E-46CE-8C31-078F24280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091A-86D4-4A58-96F8-99BB15398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2856-0411-466F-86BF-051820CA1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DF34-8A5B-428A-B18E-3C0CA8C22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0349-D387-4EBD-B3AA-B11DEB60B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hyperlink" Target="file:///tmp/home/.config/libreoffice/4/user/gallery/CIMG0003.WAV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hyperlink" Target="file:///tmp/home/.config/libreoffice/4/user/gallery/CIMG0006.WAV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IMG0003.WAV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IMG0006.WAV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3.xml"/><Relationship Id="rId5" Type="http://schemas.openxmlformats.org/officeDocument/2006/relationships/hyperlink" Target="file:///tmp/home/.config/libreoffice/4/user/gallery/CIMG0007.WAV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5.xml"/><Relationship Id="rId7" Type="http://schemas.openxmlformats.org/officeDocument/2006/relationships/slide" Target="slide20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2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hyperlink" Target="C:\Documents and Settings\All Users\Documents\&#21494;&#40511;&#20873;&#25991;&#20214;&#24211;\&#21494;&#40511;&#20873;&#25991;&#20214;&#24211;&#20013;&#36716;&#31449;\Microsoft PowerPoint&#28436;&#31034;&#25991;&#31295;.ppt &#24211;\&#35838;&#20214;\&#27721;&#35821;&#25340;&#38899;\iuv&#32451;&#20064;.doc" TargetMode="External"/><Relationship Id="rId7" Type="http://schemas.openxmlformats.org/officeDocument/2006/relationships/image" Target="../media/image23.pn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24.pn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hyperlink" Target="file:///tmp/home/.config/libreoffice/4/user/gallery/CIMG0007.WAV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file:///tmp/home/.config/libreoffice/4/user/gallery/CIMG0003.WAV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file:///tmp/home/.config/libreoffice/4/user/gallery/CIMG0006.WAV" TargetMode="External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hyperlink" Target="file:///tmp/home/.config/libreoffice/4/user/gallery/CIMG0003.WAV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hyperlink" Target="file:///tmp/home/.config/libreoffice/4/user/gallery/CIMG0006.WAV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hyperlink" Target="file:///tmp/home/.config/libreoffice/4/user/gallery/CIMG0007.WAV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3" name="Picture 7" descr="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4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1587-E48F-45FA-AD30-E8DD48F94CB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矩形 18439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4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39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7"/>
          <p:cNvSpPr/>
          <p:nvPr/>
        </p:nvSpPr>
        <p:spPr>
          <a:xfrm>
            <a:off x="380880" y="9907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8"/>
          <p:cNvSpPr/>
          <p:nvPr/>
        </p:nvSpPr>
        <p:spPr>
          <a:xfrm>
            <a:off x="380880" y="28195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9"/>
          <p:cNvSpPr/>
          <p:nvPr/>
        </p:nvSpPr>
        <p:spPr>
          <a:xfrm>
            <a:off x="380880" y="60958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WordArt 10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44" name="Line 11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2"/>
          <p:cNvSpPr/>
          <p:nvPr/>
        </p:nvSpPr>
        <p:spPr>
          <a:xfrm>
            <a:off x="5029200" y="2819520"/>
            <a:ext cx="0" cy="15238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3"/>
          <p:cNvSpPr/>
          <p:nvPr/>
        </p:nvSpPr>
        <p:spPr>
          <a:xfrm>
            <a:off x="4114800" y="2590920"/>
            <a:ext cx="380880" cy="12952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5"/>
          <p:cNvSpPr/>
          <p:nvPr/>
        </p:nvSpPr>
        <p:spPr>
          <a:xfrm flipV="1">
            <a:off x="4495680" y="2742840"/>
            <a:ext cx="228600" cy="11430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16"/>
          <p:cNvSpPr/>
          <p:nvPr/>
        </p:nvSpPr>
        <p:spPr>
          <a:xfrm>
            <a:off x="3276720" y="30481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7"/>
          <p:cNvSpPr/>
          <p:nvPr/>
        </p:nvSpPr>
        <p:spPr>
          <a:xfrm>
            <a:off x="5257800" y="4114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20"/>
          <p:cNvSpPr/>
          <p:nvPr/>
        </p:nvSpPr>
        <p:spPr>
          <a:xfrm>
            <a:off x="38098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21"/>
          <p:cNvSpPr/>
          <p:nvPr/>
        </p:nvSpPr>
        <p:spPr>
          <a:xfrm>
            <a:off x="47242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22"/>
          <p:cNvSpPr/>
          <p:nvPr/>
        </p:nvSpPr>
        <p:spPr>
          <a:xfrm>
            <a:off x="3429000" y="14479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23"/>
          <p:cNvSpPr/>
          <p:nvPr/>
        </p:nvSpPr>
        <p:spPr>
          <a:xfrm>
            <a:off x="4876920" y="1676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0F35-889E-459C-AE98-82F527B25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Picture 12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57" name="WordArt 13"/>
          <p:cNvSpPr txBox="1"/>
          <p:nvPr/>
        </p:nvSpPr>
        <p:spPr>
          <a:xfrm>
            <a:off x="5410080" y="990720"/>
            <a:ext cx="18288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y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58" name="Picture 14" descr="《汉语拼音 2》y插图"/>
          <p:cNvPicPr/>
          <p:nvPr/>
        </p:nvPicPr>
        <p:blipFill>
          <a:blip r:embed="rId3"/>
          <a:stretch/>
        </p:blipFill>
        <p:spPr>
          <a:xfrm>
            <a:off x="1219320" y="106668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1259" name="Text Box 17"/>
          <p:cNvSpPr/>
          <p:nvPr/>
        </p:nvSpPr>
        <p:spPr>
          <a:xfrm>
            <a:off x="4343400" y="266688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声母（韵母＋声母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为了区分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于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让我们叫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大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“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(y)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”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吧！自然，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小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“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（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）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”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WordArt 18"/>
          <p:cNvSpPr txBox="1"/>
          <p:nvPr/>
        </p:nvSpPr>
        <p:spPr>
          <a:xfrm>
            <a:off x="990720" y="3886200"/>
            <a:ext cx="34290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i</a:t>
            </a: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61" name="Picture 19" descr="c80e42ee4c9091d5b3fb95a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91520" y="152388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62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E029-24A0-4C12-BADF-929CB5F54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4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65" name="Line 5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6"/>
          <p:cNvSpPr/>
          <p:nvPr/>
        </p:nvSpPr>
        <p:spPr>
          <a:xfrm>
            <a:off x="380880" y="9907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7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8"/>
          <p:cNvSpPr/>
          <p:nvPr/>
        </p:nvSpPr>
        <p:spPr>
          <a:xfrm>
            <a:off x="380880" y="60958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9"/>
          <p:cNvSpPr/>
          <p:nvPr/>
        </p:nvSpPr>
        <p:spPr>
          <a:xfrm rot="19536000">
            <a:off x="2414520" y="2701800"/>
            <a:ext cx="45720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AutoShape 10"/>
          <p:cNvSpPr/>
          <p:nvPr/>
        </p:nvSpPr>
        <p:spPr>
          <a:xfrm rot="10800000">
            <a:off x="1828800" y="2742840"/>
            <a:ext cx="533520" cy="76212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11"/>
          <p:cNvSpPr/>
          <p:nvPr/>
        </p:nvSpPr>
        <p:spPr>
          <a:xfrm rot="1660800">
            <a:off x="2968200" y="2665080"/>
            <a:ext cx="457200" cy="321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AutoShape 12"/>
          <p:cNvSpPr/>
          <p:nvPr/>
        </p:nvSpPr>
        <p:spPr>
          <a:xfrm rot="12758400">
            <a:off x="3733560" y="2743200"/>
            <a:ext cx="380880" cy="3808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13"/>
          <p:cNvSpPr/>
          <p:nvPr/>
        </p:nvSpPr>
        <p:spPr>
          <a:xfrm rot="1444200">
            <a:off x="3660840" y="2723760"/>
            <a:ext cx="3808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14"/>
          <p:cNvSpPr/>
          <p:nvPr/>
        </p:nvSpPr>
        <p:spPr>
          <a:xfrm>
            <a:off x="762120" y="4952880"/>
            <a:ext cx="129528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WordArt 16"/>
          <p:cNvSpPr txBox="1"/>
          <p:nvPr/>
        </p:nvSpPr>
        <p:spPr>
          <a:xfrm>
            <a:off x="990720" y="5181480"/>
            <a:ext cx="838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碰线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6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9EF5-3C9B-451E-8DD0-0D98A62AF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8" name="Picture 6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7" descr="《汉语拼音 2》w插图"/>
          <p:cNvPicPr/>
          <p:nvPr/>
        </p:nvPicPr>
        <p:blipFill>
          <a:blip r:embed="rId3"/>
          <a:stretch/>
        </p:blipFill>
        <p:spPr>
          <a:xfrm>
            <a:off x="380880" y="609480"/>
            <a:ext cx="4267440" cy="3048120"/>
          </a:xfrm>
          <a:prstGeom prst="rect">
            <a:avLst/>
          </a:prstGeom>
          <a:ln w="0">
            <a:noFill/>
          </a:ln>
        </p:spPr>
      </p:pic>
      <p:sp>
        <p:nvSpPr>
          <p:cNvPr id="1280" name="WordArt 8"/>
          <p:cNvSpPr txBox="1"/>
          <p:nvPr/>
        </p:nvSpPr>
        <p:spPr>
          <a:xfrm>
            <a:off x="762120" y="4419720"/>
            <a:ext cx="34290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u</a:t>
            </a:r>
            <a:r>
              <a:rPr b="0" lang="zh-CN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1" name="Text Box 9"/>
          <p:cNvSpPr/>
          <p:nvPr/>
        </p:nvSpPr>
        <p:spPr>
          <a:xfrm>
            <a:off x="4191120" y="281952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幼圆"/>
                <a:ea typeface="幼圆"/>
              </a:rPr>
              <a:t>        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这是个声母（韵母＋声母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=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一个字的读音）为了区分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于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w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让我们叫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w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大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幼圆"/>
              </a:rPr>
              <a:t>“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(w)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幼圆"/>
              </a:rPr>
              <a:t>”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吧！自然，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=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小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幼圆"/>
              </a:rPr>
              <a:t>“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(w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）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幼圆"/>
              </a:rPr>
              <a:t>”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WordArt 10"/>
          <p:cNvSpPr txBox="1"/>
          <p:nvPr/>
        </p:nvSpPr>
        <p:spPr>
          <a:xfrm>
            <a:off x="5410080" y="990720"/>
            <a:ext cx="18288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w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83" name="Picture 11" descr="c80e42ee4c9091d5b3fb95a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96080" y="160020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84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E8B8-92E0-4CEB-AFB7-D65F019A1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6" name="Picture 4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87" name="Line 5"/>
          <p:cNvSpPr/>
          <p:nvPr/>
        </p:nvSpPr>
        <p:spPr>
          <a:xfrm>
            <a:off x="380880" y="10666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7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8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WordArt 9"/>
          <p:cNvSpPr txBox="1"/>
          <p:nvPr/>
        </p:nvSpPr>
        <p:spPr>
          <a:xfrm>
            <a:off x="2971800" y="2743200"/>
            <a:ext cx="2133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292" name="Line 13"/>
          <p:cNvSpPr/>
          <p:nvPr/>
        </p:nvSpPr>
        <p:spPr>
          <a:xfrm>
            <a:off x="2590920" y="2743200"/>
            <a:ext cx="457200" cy="15238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5"/>
          <p:cNvSpPr/>
          <p:nvPr/>
        </p:nvSpPr>
        <p:spPr>
          <a:xfrm flipV="1">
            <a:off x="3657600" y="3885840"/>
            <a:ext cx="304920" cy="121932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6"/>
          <p:cNvSpPr/>
          <p:nvPr/>
        </p:nvSpPr>
        <p:spPr>
          <a:xfrm>
            <a:off x="4038480" y="3657600"/>
            <a:ext cx="228600" cy="12952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7"/>
          <p:cNvSpPr/>
          <p:nvPr/>
        </p:nvSpPr>
        <p:spPr>
          <a:xfrm flipV="1">
            <a:off x="4952880" y="2742840"/>
            <a:ext cx="381240" cy="1600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18"/>
          <p:cNvSpPr/>
          <p:nvPr/>
        </p:nvSpPr>
        <p:spPr>
          <a:xfrm>
            <a:off x="3505320" y="19810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9"/>
          <p:cNvSpPr/>
          <p:nvPr/>
        </p:nvSpPr>
        <p:spPr>
          <a:xfrm>
            <a:off x="4343400" y="434340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20"/>
          <p:cNvSpPr/>
          <p:nvPr/>
        </p:nvSpPr>
        <p:spPr>
          <a:xfrm>
            <a:off x="2133720" y="32767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1"/>
          <p:cNvSpPr/>
          <p:nvPr/>
        </p:nvSpPr>
        <p:spPr>
          <a:xfrm>
            <a:off x="3200400" y="4343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2"/>
          <p:cNvSpPr/>
          <p:nvPr/>
        </p:nvSpPr>
        <p:spPr>
          <a:xfrm>
            <a:off x="5410080" y="3429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灯片编号占位符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F8FA-4A5C-49D2-B75F-751B28547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页脚占位符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3" name="Picture 4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304" name="WordArt 5"/>
          <p:cNvSpPr txBox="1"/>
          <p:nvPr/>
        </p:nvSpPr>
        <p:spPr>
          <a:xfrm>
            <a:off x="990720" y="762120"/>
            <a:ext cx="73152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yi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05" name="WordArt 6"/>
          <p:cNvSpPr txBox="1"/>
          <p:nvPr/>
        </p:nvSpPr>
        <p:spPr>
          <a:xfrm>
            <a:off x="990720" y="3809880"/>
            <a:ext cx="342900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i</a:t>
            </a: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4343400" y="2666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整体认读节音（整体认读节音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打字时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无效，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才有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7" name="Picture 8" descr="c80e42ee4c9091d5b3fb95a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14479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30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0E70-1888-4CEB-9A4F-0BEAE7D2E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Picture 7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311" name="WordArt 8"/>
          <p:cNvSpPr txBox="1"/>
          <p:nvPr/>
        </p:nvSpPr>
        <p:spPr>
          <a:xfrm>
            <a:off x="990720" y="3809880"/>
            <a:ext cx="342900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u</a:t>
            </a: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2" name="WordArt 9"/>
          <p:cNvSpPr txBox="1"/>
          <p:nvPr/>
        </p:nvSpPr>
        <p:spPr>
          <a:xfrm>
            <a:off x="990720" y="762120"/>
            <a:ext cx="73152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wu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13" name="Text Box 10"/>
          <p:cNvSpPr/>
          <p:nvPr/>
        </p:nvSpPr>
        <p:spPr>
          <a:xfrm>
            <a:off x="4343400" y="2666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整体认读节音（整体认读节音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打字时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u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无效，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wu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才有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11" descr="c80e42ee4c9091d5b3fb95a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48720" y="16765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31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0831-8420-4F03-B853-B52E323B4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4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320" name="WordArt 5"/>
          <p:cNvSpPr txBox="1"/>
          <p:nvPr/>
        </p:nvSpPr>
        <p:spPr>
          <a:xfrm>
            <a:off x="990720" y="762120"/>
            <a:ext cx="73152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yu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21" name="Text Box 8"/>
          <p:cNvSpPr/>
          <p:nvPr/>
        </p:nvSpPr>
        <p:spPr>
          <a:xfrm>
            <a:off x="4343400" y="2666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整体认读节音（整体认读节音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打字时输入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  <a:ea typeface="方正姚体"/>
              </a:rPr>
              <a:t>ü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无效，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u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才有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WordArt 9"/>
          <p:cNvSpPr txBox="1"/>
          <p:nvPr/>
        </p:nvSpPr>
        <p:spPr>
          <a:xfrm>
            <a:off x="762120" y="2666880"/>
            <a:ext cx="342900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ü</a:t>
            </a: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3" name="AutoShape 10">
            <a:hlinkClick r:id="rId4" action="ppaction://hlinksldjump"/>
          </p:cNvPr>
          <p:cNvSpPr/>
          <p:nvPr/>
        </p:nvSpPr>
        <p:spPr>
          <a:xfrm>
            <a:off x="1066680" y="3962520"/>
            <a:ext cx="3276720" cy="266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50000">
                <a:srgbClr val="cbcbcb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WordArt 11"/>
          <p:cNvSpPr txBox="1"/>
          <p:nvPr/>
        </p:nvSpPr>
        <p:spPr>
          <a:xfrm rot="1273200">
            <a:off x="2031480" y="4329000"/>
            <a:ext cx="1457640" cy="20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900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返回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900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5" name="Picture 12" descr="c80e42ee4c9091d5b3fb95a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001000" y="14479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326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855F-02B3-43A5-9F4A-941ED7B58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WordArt 4"/>
          <p:cNvSpPr txBox="1"/>
          <p:nvPr/>
        </p:nvSpPr>
        <p:spPr>
          <a:xfrm>
            <a:off x="1523880" y="0"/>
            <a:ext cx="762012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刷洗完毕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0" name="Rectangle 6">
            <a:hlinkClick r:id="" action="ppaction://hlinkshowjump?jump=previousslide"/>
          </p:cNvPr>
          <p:cNvSpPr/>
          <p:nvPr/>
        </p:nvSpPr>
        <p:spPr>
          <a:xfrm>
            <a:off x="304920" y="762120"/>
            <a:ext cx="1066680" cy="5715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3C10-3CB1-473A-BCC5-32063ACEC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 txBox="1"/>
          <p:nvPr/>
        </p:nvSpPr>
        <p:spPr>
          <a:xfrm>
            <a:off x="304920" y="2895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由于今天学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u y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笔画过多，所以将就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Arial"/>
                <a:hlinkClick r:id="rId4" action="ppaction://hlinksldjump"/>
              </a:rPr>
              <a:t>ü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y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w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再进行演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点击进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AutoShape 29">
            <a:hlinkClick r:id="rId7" action="ppaction://hlinksldjump"/>
          </p:cNvPr>
          <p:cNvSpPr/>
          <p:nvPr/>
        </p:nvSpPr>
        <p:spPr>
          <a:xfrm rot="10800000">
            <a:off x="4952880" y="4648320"/>
            <a:ext cx="1828800" cy="1295280"/>
          </a:xfrm>
          <a:custGeom>
            <a:avLst/>
            <a:gdLst>
              <a:gd name="textAreaLeft" fmla="*/ 83880 w 1828800"/>
              <a:gd name="textAreaRight" fmla="*/ 1744920 w 18288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0494" h="21600">
                <a:moveTo>
                  <a:pt x="0" y="0"/>
                </a:moveTo>
                <a:lnTo>
                  <a:pt x="30494" y="0"/>
                </a:lnTo>
                <a:lnTo>
                  <a:pt x="30494" y="21600"/>
                </a:lnTo>
                <a:lnTo>
                  <a:pt x="0" y="21600"/>
                </a:lnTo>
                <a:close/>
              </a:path>
              <a:path fill="lightenLess" w="30494" h="21600">
                <a:moveTo>
                  <a:pt x="0" y="0"/>
                </a:moveTo>
                <a:lnTo>
                  <a:pt x="30494" y="0"/>
                </a:lnTo>
                <a:lnTo>
                  <a:pt x="29094" y="1400"/>
                </a:lnTo>
                <a:lnTo>
                  <a:pt x="1400" y="1400"/>
                </a:lnTo>
                <a:close/>
              </a:path>
              <a:path fill="darken" w="30494" h="21600">
                <a:moveTo>
                  <a:pt x="30494" y="0"/>
                </a:moveTo>
                <a:lnTo>
                  <a:pt x="30494" y="21600"/>
                </a:lnTo>
                <a:lnTo>
                  <a:pt x="29094" y="20200"/>
                </a:lnTo>
                <a:lnTo>
                  <a:pt x="29094" y="1400"/>
                </a:lnTo>
                <a:close/>
              </a:path>
              <a:path fill="darkenLess" w="30494" h="21600">
                <a:moveTo>
                  <a:pt x="30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94" y="20200"/>
                </a:lnTo>
                <a:close/>
              </a:path>
              <a:path fill="lighten" w="30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94" h="21600">
                <a:moveTo>
                  <a:pt x="8241" y="7493"/>
                </a:moveTo>
                <a:lnTo>
                  <a:pt x="11748" y="7493"/>
                </a:lnTo>
                <a:lnTo>
                  <a:pt x="11748" y="12828"/>
                </a:lnTo>
                <a:cubicBezTo>
                  <a:pt x="11748" y="13751"/>
                  <a:pt x="12549" y="14482"/>
                  <a:pt x="13585" y="14482"/>
                </a:cubicBezTo>
                <a:lnTo>
                  <a:pt x="15247" y="14482"/>
                </a:lnTo>
                <a:cubicBezTo>
                  <a:pt x="16283" y="14482"/>
                  <a:pt x="17084" y="13751"/>
                  <a:pt x="17084" y="12828"/>
                </a:cubicBezTo>
                <a:lnTo>
                  <a:pt x="17084" y="7493"/>
                </a:lnTo>
                <a:lnTo>
                  <a:pt x="15247" y="7493"/>
                </a:lnTo>
                <a:lnTo>
                  <a:pt x="18755" y="3985"/>
                </a:lnTo>
                <a:lnTo>
                  <a:pt x="22428" y="7493"/>
                </a:lnTo>
                <a:lnTo>
                  <a:pt x="20591" y="7493"/>
                </a:lnTo>
                <a:lnTo>
                  <a:pt x="20591" y="12828"/>
                </a:lnTo>
                <a:cubicBezTo>
                  <a:pt x="20591" y="15596"/>
                  <a:pt x="18015" y="18155"/>
                  <a:pt x="15247" y="18155"/>
                </a:cubicBezTo>
                <a:lnTo>
                  <a:pt x="13585" y="18155"/>
                </a:lnTo>
                <a:cubicBezTo>
                  <a:pt x="10817" y="18155"/>
                  <a:pt x="8241" y="15596"/>
                  <a:pt x="8241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30">
            <a:hlinkClick r:id="rId8" action="ppaction://hlinksldjump"/>
          </p:cNvPr>
          <p:cNvSpPr/>
          <p:nvPr/>
        </p:nvSpPr>
        <p:spPr>
          <a:xfrm>
            <a:off x="6858000" y="4648320"/>
            <a:ext cx="1523880" cy="129528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1" h="21600">
                <a:moveTo>
                  <a:pt x="12706" y="3837"/>
                </a:moveTo>
                <a:lnTo>
                  <a:pt x="15282" y="6448"/>
                </a:lnTo>
                <a:lnTo>
                  <a:pt x="15282" y="4707"/>
                </a:lnTo>
                <a:lnTo>
                  <a:pt x="17057" y="4707"/>
                </a:lnTo>
                <a:lnTo>
                  <a:pt x="17057" y="8224"/>
                </a:lnTo>
                <a:lnTo>
                  <a:pt x="19668" y="10800"/>
                </a:lnTo>
                <a:lnTo>
                  <a:pt x="18015" y="10800"/>
                </a:lnTo>
                <a:lnTo>
                  <a:pt x="18015" y="17989"/>
                </a:lnTo>
                <a:lnTo>
                  <a:pt x="7396" y="17989"/>
                </a:lnTo>
                <a:lnTo>
                  <a:pt x="7396" y="10800"/>
                </a:lnTo>
                <a:lnTo>
                  <a:pt x="5743" y="10800"/>
                </a:lnTo>
                <a:close/>
              </a:path>
              <a:path fill="darkenLess" w="25411" h="21600">
                <a:moveTo>
                  <a:pt x="15282" y="6448"/>
                </a:moveTo>
                <a:lnTo>
                  <a:pt x="15282" y="4707"/>
                </a:lnTo>
                <a:lnTo>
                  <a:pt x="17057" y="4707"/>
                </a:lnTo>
                <a:lnTo>
                  <a:pt x="17057" y="8224"/>
                </a:lnTo>
                <a:close/>
              </a:path>
              <a:path fill="darkenLess" w="25411" h="21600">
                <a:moveTo>
                  <a:pt x="11783" y="14299"/>
                </a:moveTo>
                <a:lnTo>
                  <a:pt x="13628" y="14299"/>
                </a:lnTo>
                <a:lnTo>
                  <a:pt x="13628" y="17989"/>
                </a:lnTo>
                <a:lnTo>
                  <a:pt x="18015" y="17989"/>
                </a:lnTo>
                <a:lnTo>
                  <a:pt x="18015" y="10800"/>
                </a:lnTo>
                <a:lnTo>
                  <a:pt x="7396" y="10800"/>
                </a:lnTo>
                <a:lnTo>
                  <a:pt x="7396" y="17989"/>
                </a:lnTo>
                <a:lnTo>
                  <a:pt x="11783" y="1798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幼圆"/>
              </a:rPr>
              <a:t>刷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217C-9C08-4B4E-83C4-4F41BB7A1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5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7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9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11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AutoShape 13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15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AutoShape 17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AutoShape 19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21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23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28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30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34"/>
          <p:cNvSpPr/>
          <p:nvPr/>
        </p:nvSpPr>
        <p:spPr>
          <a:xfrm>
            <a:off x="155520" y="46080"/>
            <a:ext cx="46674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39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41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45"/>
          <p:cNvSpPr/>
          <p:nvPr/>
        </p:nvSpPr>
        <p:spPr>
          <a:xfrm>
            <a:off x="155520" y="46080"/>
            <a:ext cx="46674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47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5" name="WordArt 49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83560"/>
          </a:xfrm>
          <a:prstGeom prst="rect">
            <a:avLst/>
          </a:prstGeom>
          <a:ln w="0">
            <a:noFill/>
          </a:ln>
        </p:spPr>
      </p:pic>
      <p:sp>
        <p:nvSpPr>
          <p:cNvPr id="1156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99C5-7588-4D5C-8CBB-22E9F5033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AutoShape 4">
            <a:hlinkClick r:id="rId2" action="ppaction://hlinksldjump"/>
          </p:cNvPr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WordArt 5"/>
          <p:cNvSpPr txBox="1"/>
          <p:nvPr/>
        </p:nvSpPr>
        <p:spPr>
          <a:xfrm>
            <a:off x="2362320" y="9144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40" name="WordArt 6" descr=""/>
          <p:cNvPicPr/>
          <p:nvPr/>
        </p:nvPicPr>
        <p:blipFill>
          <a:blip r:embed="rId3"/>
          <a:stretch/>
        </p:blipFill>
        <p:spPr>
          <a:xfrm>
            <a:off x="-577800" y="222120"/>
            <a:ext cx="2641680" cy="873360"/>
          </a:xfrm>
          <a:prstGeom prst="rect">
            <a:avLst/>
          </a:prstGeom>
          <a:ln w="0">
            <a:noFill/>
          </a:ln>
        </p:spPr>
      </p:pic>
      <p:sp>
        <p:nvSpPr>
          <p:cNvPr id="1341" name="WordArt 7"/>
          <p:cNvSpPr txBox="1"/>
          <p:nvPr/>
        </p:nvSpPr>
        <p:spPr>
          <a:xfrm>
            <a:off x="2209680" y="3808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2" name="AutoShape 20">
            <a:hlinkClick r:id="" action="ppaction://hlinkshowjump?jump=firstslide"/>
          </p:cNvPr>
          <p:cNvSpPr/>
          <p:nvPr/>
        </p:nvSpPr>
        <p:spPr>
          <a:xfrm>
            <a:off x="4419720" y="1600200"/>
            <a:ext cx="457200" cy="838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WordArt 21"/>
          <p:cNvSpPr txBox="1"/>
          <p:nvPr/>
        </p:nvSpPr>
        <p:spPr>
          <a:xfrm>
            <a:off x="533520" y="152388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重播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4" name="WordArt 22"/>
          <p:cNvSpPr txBox="1"/>
          <p:nvPr/>
        </p:nvSpPr>
        <p:spPr>
          <a:xfrm>
            <a:off x="2209680" y="17524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5" name="WordArt 23"/>
          <p:cNvSpPr txBox="1"/>
          <p:nvPr/>
        </p:nvSpPr>
        <p:spPr>
          <a:xfrm>
            <a:off x="2514600" y="3505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6" name="AutoShape 24">
            <a:hlinkClick r:id="rId6"/>
          </p:cNvPr>
          <p:cNvSpPr/>
          <p:nvPr/>
        </p:nvSpPr>
        <p:spPr>
          <a:xfrm>
            <a:off x="3886200" y="2666880"/>
            <a:ext cx="1371600" cy="1219320"/>
          </a:xfrm>
          <a:custGeom>
            <a:avLst/>
            <a:gdLst/>
            <a:ahLst/>
            <a:rect l="l" t="t" r="r" b="b"/>
            <a:pathLst>
              <a:path w="1371600" h="1219200">
                <a:moveTo>
                  <a:pt x="1" y="465691"/>
                </a:moveTo>
                <a:lnTo>
                  <a:pt x="523907" y="465695"/>
                </a:lnTo>
                <a:lnTo>
                  <a:pt x="685800" y="0"/>
                </a:lnTo>
                <a:lnTo>
                  <a:pt x="847692" y="465695"/>
                </a:lnTo>
                <a:lnTo>
                  <a:pt x="1371598" y="465691"/>
                </a:lnTo>
                <a:lnTo>
                  <a:pt x="947747" y="753503"/>
                </a:lnTo>
                <a:lnTo>
                  <a:pt x="1109646" y="1219196"/>
                </a:lnTo>
                <a:lnTo>
                  <a:pt x="685800" y="931379"/>
                </a:lnTo>
                <a:lnTo>
                  <a:pt x="261953" y="1219196"/>
                </a:lnTo>
                <a:lnTo>
                  <a:pt x="423852" y="753503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WordArt 25"/>
          <p:cNvSpPr txBox="1"/>
          <p:nvPr/>
        </p:nvSpPr>
        <p:spPr>
          <a:xfrm>
            <a:off x="1981080" y="5410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8" name="WordArt 26"/>
          <p:cNvSpPr txBox="1"/>
          <p:nvPr/>
        </p:nvSpPr>
        <p:spPr>
          <a:xfrm>
            <a:off x="2514600" y="2362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49" name="WordArt 27" descr=""/>
          <p:cNvPicPr/>
          <p:nvPr/>
        </p:nvPicPr>
        <p:blipFill>
          <a:blip r:embed="rId7"/>
          <a:stretch/>
        </p:blipFill>
        <p:spPr>
          <a:xfrm>
            <a:off x="147600" y="2971800"/>
            <a:ext cx="1876320" cy="1028880"/>
          </a:xfrm>
          <a:prstGeom prst="rect">
            <a:avLst/>
          </a:prstGeom>
          <a:ln w="0">
            <a:noFill/>
          </a:ln>
        </p:spPr>
      </p:pic>
      <p:sp>
        <p:nvSpPr>
          <p:cNvPr id="1350" name="AutoShape 28"/>
          <p:cNvSpPr/>
          <p:nvPr/>
        </p:nvSpPr>
        <p:spPr>
          <a:xfrm>
            <a:off x="4114800" y="304920"/>
            <a:ext cx="1371600" cy="914400"/>
          </a:xfrm>
          <a:prstGeom prst="flowChartInternalStorag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WordArt 29"/>
          <p:cNvSpPr txBox="1"/>
          <p:nvPr/>
        </p:nvSpPr>
        <p:spPr>
          <a:xfrm>
            <a:off x="457200" y="4572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比划演示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2" name="WordArt 30"/>
          <p:cNvSpPr txBox="1"/>
          <p:nvPr/>
        </p:nvSpPr>
        <p:spPr>
          <a:xfrm>
            <a:off x="2286000" y="32004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3" name="WordArt 31"/>
          <p:cNvSpPr txBox="1"/>
          <p:nvPr/>
        </p:nvSpPr>
        <p:spPr>
          <a:xfrm>
            <a:off x="2286000" y="5867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4" name="AutoShape 33"/>
          <p:cNvSpPr/>
          <p:nvPr/>
        </p:nvSpPr>
        <p:spPr>
          <a:xfrm>
            <a:off x="4114800" y="4191120"/>
            <a:ext cx="1219320" cy="761760"/>
          </a:xfrm>
          <a:custGeom>
            <a:avLst/>
            <a:gdLst>
              <a:gd name="textAreaLeft" fmla="*/ 0 w 1219320"/>
              <a:gd name="textAreaRight" fmla="*/ 1219680 w 1219320"/>
              <a:gd name="textAreaTop" fmla="*/ 98640 h 761760"/>
              <a:gd name="textAreaBottom" fmla="*/ 663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5" name="WordArt 34" descr=""/>
          <p:cNvPicPr/>
          <p:nvPr/>
        </p:nvPicPr>
        <p:blipFill>
          <a:blip r:embed="rId10"/>
          <a:stretch/>
        </p:blipFill>
        <p:spPr>
          <a:xfrm>
            <a:off x="0" y="5257800"/>
            <a:ext cx="1778040" cy="939960"/>
          </a:xfrm>
          <a:prstGeom prst="rect">
            <a:avLst/>
          </a:prstGeom>
          <a:ln w="0">
            <a:noFill/>
          </a:ln>
        </p:spPr>
      </p:pic>
      <p:sp>
        <p:nvSpPr>
          <p:cNvPr id="1356" name="WordArt 36"/>
          <p:cNvSpPr txBox="1"/>
          <p:nvPr/>
        </p:nvSpPr>
        <p:spPr>
          <a:xfrm>
            <a:off x="2590920" y="4876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7" name="WordArt 37"/>
          <p:cNvSpPr txBox="1"/>
          <p:nvPr/>
        </p:nvSpPr>
        <p:spPr>
          <a:xfrm>
            <a:off x="2133720" y="4267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8" name="AutoShape 38"/>
          <p:cNvSpPr/>
          <p:nvPr/>
        </p:nvSpPr>
        <p:spPr>
          <a:xfrm>
            <a:off x="4114800" y="5334120"/>
            <a:ext cx="990720" cy="76176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43"/>
          <p:cNvSpPr/>
          <p:nvPr/>
        </p:nvSpPr>
        <p:spPr>
          <a:xfrm>
            <a:off x="7326000" y="2811600"/>
            <a:ext cx="7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48"/>
          <p:cNvSpPr/>
          <p:nvPr/>
        </p:nvSpPr>
        <p:spPr>
          <a:xfrm>
            <a:off x="7718400" y="38401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AutoShape 49">
            <a:hlinkClick r:id="" action="ppaction://hlinkshowjump?jump=endshow"/>
          </p:cNvPr>
          <p:cNvSpPr/>
          <p:nvPr/>
        </p:nvSpPr>
        <p:spPr>
          <a:xfrm>
            <a:off x="5562720" y="5410080"/>
            <a:ext cx="1676160" cy="1447920"/>
          </a:xfrm>
          <a:custGeom>
            <a:avLst/>
            <a:gdLst>
              <a:gd name="textAreaLeft" fmla="*/ 93600 w 1676160"/>
              <a:gd name="textAreaRight" fmla="*/ 1582560 w 16761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4" h="21600">
                <a:moveTo>
                  <a:pt x="0" y="0"/>
                </a:moveTo>
                <a:lnTo>
                  <a:pt x="25004" y="0"/>
                </a:lnTo>
                <a:lnTo>
                  <a:pt x="25004" y="21600"/>
                </a:lnTo>
                <a:lnTo>
                  <a:pt x="0" y="21600"/>
                </a:lnTo>
                <a:close/>
              </a:path>
              <a:path fill="lightenLess" w="25004" h="21600">
                <a:moveTo>
                  <a:pt x="0" y="0"/>
                </a:moveTo>
                <a:lnTo>
                  <a:pt x="25004" y="0"/>
                </a:lnTo>
                <a:lnTo>
                  <a:pt x="23604" y="1400"/>
                </a:lnTo>
                <a:lnTo>
                  <a:pt x="1400" y="1400"/>
                </a:lnTo>
                <a:close/>
              </a:path>
              <a:path fill="darken" w="25004" h="21600">
                <a:moveTo>
                  <a:pt x="25004" y="0"/>
                </a:moveTo>
                <a:lnTo>
                  <a:pt x="25004" y="21600"/>
                </a:lnTo>
                <a:lnTo>
                  <a:pt x="23604" y="20200"/>
                </a:lnTo>
                <a:lnTo>
                  <a:pt x="23604" y="1400"/>
                </a:lnTo>
                <a:close/>
              </a:path>
              <a:path fill="darkenLess" w="25004" h="21600">
                <a:moveTo>
                  <a:pt x="25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4" y="20200"/>
                </a:lnTo>
                <a:close/>
              </a:path>
              <a:path fill="lighten" w="25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4" h="21600">
                <a:moveTo>
                  <a:pt x="16001" y="10800"/>
                </a:moveTo>
                <a:lnTo>
                  <a:pt x="5496" y="17806"/>
                </a:lnTo>
                <a:lnTo>
                  <a:pt x="5496" y="3794"/>
                </a:lnTo>
                <a:close/>
              </a:path>
              <a:path fill="darken" w="25004" h="21600">
                <a:moveTo>
                  <a:pt x="17846" y="3794"/>
                </a:moveTo>
                <a:lnTo>
                  <a:pt x="17846" y="17806"/>
                </a:lnTo>
                <a:lnTo>
                  <a:pt x="19508" y="17806"/>
                </a:lnTo>
                <a:lnTo>
                  <a:pt x="19508" y="37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WordArt 50"/>
          <p:cNvSpPr txBox="1"/>
          <p:nvPr/>
        </p:nvSpPr>
        <p:spPr>
          <a:xfrm>
            <a:off x="5943600" y="5715000"/>
            <a:ext cx="914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退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63" name="AutoShape 57"/>
          <p:cNvSpPr/>
          <p:nvPr/>
        </p:nvSpPr>
        <p:spPr>
          <a:xfrm>
            <a:off x="6095880" y="2057400"/>
            <a:ext cx="2210040" cy="1676520"/>
          </a:xfrm>
          <a:custGeom>
            <a:avLst/>
            <a:gdLst>
              <a:gd name="textAreaLeft" fmla="*/ 108360 w 2210040"/>
              <a:gd name="textAreaRight" fmla="*/ 2101680 w 22100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72" h="21600">
                <a:moveTo>
                  <a:pt x="0" y="0"/>
                </a:moveTo>
                <a:lnTo>
                  <a:pt x="28472" y="0"/>
                </a:lnTo>
                <a:lnTo>
                  <a:pt x="28472" y="21600"/>
                </a:lnTo>
                <a:lnTo>
                  <a:pt x="0" y="21600"/>
                </a:lnTo>
                <a:close/>
              </a:path>
              <a:path fill="lightenLess" w="28472" h="21600">
                <a:moveTo>
                  <a:pt x="0" y="0"/>
                </a:moveTo>
                <a:lnTo>
                  <a:pt x="28472" y="0"/>
                </a:lnTo>
                <a:lnTo>
                  <a:pt x="27072" y="1400"/>
                </a:lnTo>
                <a:lnTo>
                  <a:pt x="1400" y="1400"/>
                </a:lnTo>
                <a:close/>
              </a:path>
              <a:path fill="darken" w="28472" h="21600">
                <a:moveTo>
                  <a:pt x="28472" y="0"/>
                </a:moveTo>
                <a:lnTo>
                  <a:pt x="28472" y="21600"/>
                </a:lnTo>
                <a:lnTo>
                  <a:pt x="27072" y="20200"/>
                </a:lnTo>
                <a:lnTo>
                  <a:pt x="27072" y="1400"/>
                </a:lnTo>
                <a:close/>
              </a:path>
              <a:path fill="darkenLess" w="28472" h="21600">
                <a:moveTo>
                  <a:pt x="28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72" y="20200"/>
                </a:lnTo>
                <a:close/>
              </a:path>
              <a:path fill="lighten" w="28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72" h="21600">
                <a:moveTo>
                  <a:pt x="7230" y="7301"/>
                </a:moveTo>
                <a:lnTo>
                  <a:pt x="8144" y="7301"/>
                </a:lnTo>
                <a:lnTo>
                  <a:pt x="8527" y="7667"/>
                </a:lnTo>
                <a:lnTo>
                  <a:pt x="17735" y="7667"/>
                </a:lnTo>
                <a:lnTo>
                  <a:pt x="18292" y="8224"/>
                </a:lnTo>
                <a:lnTo>
                  <a:pt x="18292" y="8772"/>
                </a:lnTo>
                <a:lnTo>
                  <a:pt x="20137" y="8772"/>
                </a:lnTo>
                <a:lnTo>
                  <a:pt x="20503" y="8224"/>
                </a:lnTo>
                <a:lnTo>
                  <a:pt x="21243" y="8224"/>
                </a:lnTo>
                <a:lnTo>
                  <a:pt x="21243" y="13376"/>
                </a:lnTo>
                <a:lnTo>
                  <a:pt x="20503" y="13376"/>
                </a:lnTo>
                <a:lnTo>
                  <a:pt x="20137" y="12828"/>
                </a:lnTo>
                <a:lnTo>
                  <a:pt x="18292" y="12828"/>
                </a:lnTo>
                <a:lnTo>
                  <a:pt x="18292" y="14107"/>
                </a:lnTo>
                <a:lnTo>
                  <a:pt x="8709" y="14107"/>
                </a:lnTo>
                <a:lnTo>
                  <a:pt x="8709" y="9877"/>
                </a:lnTo>
                <a:lnTo>
                  <a:pt x="8527" y="9877"/>
                </a:lnTo>
                <a:lnTo>
                  <a:pt x="8144" y="10243"/>
                </a:lnTo>
                <a:lnTo>
                  <a:pt x="7230" y="10243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WordArt 59"/>
          <p:cNvSpPr txBox="1"/>
          <p:nvPr/>
        </p:nvSpPr>
        <p:spPr>
          <a:xfrm>
            <a:off x="6477120" y="27432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单元复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65" name="Picture 60" descr="图片3"/>
          <p:cNvPicPr/>
          <p:nvPr/>
        </p:nvPicPr>
        <p:blipFill>
          <a:blip r:embed="rId12"/>
          <a:stretch/>
        </p:blipFill>
        <p:spPr>
          <a:xfrm>
            <a:off x="-304920" y="-142920"/>
            <a:ext cx="9753840" cy="7143840"/>
          </a:xfrm>
          <a:prstGeom prst="rect">
            <a:avLst/>
          </a:prstGeom>
          <a:ln w="0">
            <a:noFill/>
          </a:ln>
        </p:spPr>
      </p:pic>
      <p:sp>
        <p:nvSpPr>
          <p:cNvPr id="136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88F0-FC88-4007-ABB5-E890CD5E0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Line 4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5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6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9"/>
          <p:cNvSpPr/>
          <p:nvPr/>
        </p:nvSpPr>
        <p:spPr>
          <a:xfrm>
            <a:off x="30492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10"/>
          <p:cNvSpPr/>
          <p:nvPr/>
        </p:nvSpPr>
        <p:spPr>
          <a:xfrm>
            <a:off x="3886200" y="274320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11"/>
          <p:cNvSpPr/>
          <p:nvPr/>
        </p:nvSpPr>
        <p:spPr>
          <a:xfrm>
            <a:off x="3733920" y="2133720"/>
            <a:ext cx="30456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12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54BA-0E6A-4C16-A180-4F3266188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Line 4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WordArt 5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79" name="Line 6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7"/>
          <p:cNvSpPr/>
          <p:nvPr/>
        </p:nvSpPr>
        <p:spPr>
          <a:xfrm>
            <a:off x="380880" y="6094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10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AutoShape 11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49FA-9E2B-4AAF-8215-6C2A47B08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Line 4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5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7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8"/>
          <p:cNvSpPr/>
          <p:nvPr/>
        </p:nvSpPr>
        <p:spPr>
          <a:xfrm>
            <a:off x="38098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9"/>
          <p:cNvSpPr/>
          <p:nvPr/>
        </p:nvSpPr>
        <p:spPr>
          <a:xfrm>
            <a:off x="4648320" y="2209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WordArt 10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93" name="Line 11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AutoShape 12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B606-69A3-4585-974C-801F0F3C5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Line 4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5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7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8"/>
          <p:cNvSpPr/>
          <p:nvPr/>
        </p:nvSpPr>
        <p:spPr>
          <a:xfrm>
            <a:off x="3733920" y="2743200"/>
            <a:ext cx="91440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10"/>
          <p:cNvSpPr/>
          <p:nvPr/>
        </p:nvSpPr>
        <p:spPr>
          <a:xfrm flipH="1">
            <a:off x="3962160" y="2743200"/>
            <a:ext cx="1447560" cy="30481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AutoShape 11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0D9F-4B6B-4777-BDAF-601DA2131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Line 4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5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6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7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9"/>
          <p:cNvSpPr/>
          <p:nvPr/>
        </p:nvSpPr>
        <p:spPr>
          <a:xfrm>
            <a:off x="2743200" y="2743200"/>
            <a:ext cx="60948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0"/>
          <p:cNvSpPr/>
          <p:nvPr/>
        </p:nvSpPr>
        <p:spPr>
          <a:xfrm flipH="1">
            <a:off x="3352680" y="2743200"/>
            <a:ext cx="60984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"/>
          <p:cNvSpPr/>
          <p:nvPr/>
        </p:nvSpPr>
        <p:spPr>
          <a:xfrm>
            <a:off x="3962520" y="2743200"/>
            <a:ext cx="45720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2"/>
          <p:cNvSpPr/>
          <p:nvPr/>
        </p:nvSpPr>
        <p:spPr>
          <a:xfrm flipH="1">
            <a:off x="4419360" y="2743200"/>
            <a:ext cx="60948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AutoShape 15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1250-7AB1-4960-A288-3E4A95038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WordArt 5"/>
          <p:cNvSpPr txBox="1"/>
          <p:nvPr/>
        </p:nvSpPr>
        <p:spPr>
          <a:xfrm>
            <a:off x="2133720" y="2286000"/>
            <a:ext cx="12952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y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yi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18" name="Line 6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0" y="1828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9"/>
          <p:cNvSpPr/>
          <p:nvPr/>
        </p:nvSpPr>
        <p:spPr>
          <a:xfrm>
            <a:off x="60199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1" name="WordArt 10" descr=""/>
          <p:cNvPicPr/>
          <p:nvPr/>
        </p:nvPicPr>
        <p:blipFill>
          <a:blip r:embed="rId2"/>
          <a:stretch/>
        </p:blipFill>
        <p:spPr>
          <a:xfrm>
            <a:off x="4110120" y="1900080"/>
            <a:ext cx="1724040" cy="4562640"/>
          </a:xfrm>
          <a:prstGeom prst="rect">
            <a:avLst/>
          </a:prstGeom>
          <a:ln w="0">
            <a:noFill/>
          </a:ln>
        </p:spPr>
      </p:pic>
      <p:sp>
        <p:nvSpPr>
          <p:cNvPr id="1422" name="WordArt 11"/>
          <p:cNvSpPr txBox="1"/>
          <p:nvPr/>
        </p:nvSpPr>
        <p:spPr>
          <a:xfrm>
            <a:off x="2895480" y="1905120"/>
            <a:ext cx="228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i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423" name="WordArt 12" descr=""/>
          <p:cNvPicPr/>
          <p:nvPr/>
        </p:nvPicPr>
        <p:blipFill>
          <a:blip r:embed="rId3"/>
          <a:stretch/>
        </p:blipFill>
        <p:spPr>
          <a:xfrm>
            <a:off x="6165720" y="1822320"/>
            <a:ext cx="965160" cy="4915080"/>
          </a:xfrm>
          <a:prstGeom prst="rect">
            <a:avLst/>
          </a:prstGeom>
          <a:ln w="0">
            <a:noFill/>
          </a:ln>
        </p:spPr>
      </p:pic>
      <p:sp>
        <p:nvSpPr>
          <p:cNvPr id="1424" name="Line 13"/>
          <p:cNvSpPr/>
          <p:nvPr/>
        </p:nvSpPr>
        <p:spPr>
          <a:xfrm>
            <a:off x="20574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4"/>
          <p:cNvSpPr/>
          <p:nvPr/>
        </p:nvSpPr>
        <p:spPr>
          <a:xfrm flipH="1">
            <a:off x="-360" y="533412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5"/>
          <p:cNvSpPr/>
          <p:nvPr/>
        </p:nvSpPr>
        <p:spPr>
          <a:xfrm flipH="1">
            <a:off x="-360" y="335268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WordArt 16"/>
          <p:cNvSpPr txBox="1"/>
          <p:nvPr/>
        </p:nvSpPr>
        <p:spPr>
          <a:xfrm>
            <a:off x="6324480" y="380988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(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无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8" name="WordArt 17"/>
          <p:cNvSpPr txBox="1"/>
          <p:nvPr/>
        </p:nvSpPr>
        <p:spPr>
          <a:xfrm>
            <a:off x="1066680" y="2286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读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29" name="Line 18"/>
          <p:cNvSpPr/>
          <p:nvPr/>
        </p:nvSpPr>
        <p:spPr>
          <a:xfrm>
            <a:off x="304920" y="0"/>
            <a:ext cx="175248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19"/>
          <p:cNvSpPr/>
          <p:nvPr/>
        </p:nvSpPr>
        <p:spPr>
          <a:xfrm>
            <a:off x="0" y="914400"/>
            <a:ext cx="2057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WordArt 20"/>
          <p:cNvSpPr txBox="1"/>
          <p:nvPr/>
        </p:nvSpPr>
        <p:spPr>
          <a:xfrm rot="1294200">
            <a:off x="151920" y="533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写法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2" name="WordArt 21"/>
          <p:cNvSpPr txBox="1"/>
          <p:nvPr/>
        </p:nvSpPr>
        <p:spPr>
          <a:xfrm>
            <a:off x="228600" y="13716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类型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3" name="WordArt 22"/>
          <p:cNvSpPr txBox="1"/>
          <p:nvPr/>
        </p:nvSpPr>
        <p:spPr>
          <a:xfrm>
            <a:off x="304920" y="2362320"/>
            <a:ext cx="16761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韵母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4" name="WordArt 23"/>
          <p:cNvSpPr txBox="1"/>
          <p:nvPr/>
        </p:nvSpPr>
        <p:spPr>
          <a:xfrm>
            <a:off x="0" y="3352680"/>
            <a:ext cx="1981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声母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5" name="WordArt 24"/>
          <p:cNvSpPr txBox="1"/>
          <p:nvPr/>
        </p:nvSpPr>
        <p:spPr>
          <a:xfrm>
            <a:off x="0" y="533412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整体认读音节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36" name="Picture 25" descr="c80e42ee4c9091d5b3fb95a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00800" y="3808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437" name="Picture 26" descr="c80e42ee4c9091d5b3fb95a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14600" y="3808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27" descr="c80e42ee4c9091d5b3fb95a2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724280" y="38088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439" name="AutoShape 28"/>
          <p:cNvSpPr/>
          <p:nvPr/>
        </p:nvSpPr>
        <p:spPr>
          <a:xfrm>
            <a:off x="8153280" y="457200"/>
            <a:ext cx="990720" cy="18288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828800"/>
              <a:gd name="textAreaBottom" fmla="*/ 1764720 h 1828800"/>
            </a:gdLst>
            <a:ahLst/>
            <a:rect l="textAreaLeft" t="textAreaTop" r="textAreaRight" b="textAreaBottom"/>
            <a:pathLst>
              <a:path w="21600" h="39865">
                <a:moveTo>
                  <a:pt x="0" y="0"/>
                </a:moveTo>
                <a:lnTo>
                  <a:pt x="21600" y="0"/>
                </a:lnTo>
                <a:lnTo>
                  <a:pt x="21600" y="39865"/>
                </a:lnTo>
                <a:lnTo>
                  <a:pt x="0" y="39865"/>
                </a:lnTo>
                <a:close/>
              </a:path>
              <a:path fill="lightenLess" w="21600" h="39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865">
                <a:moveTo>
                  <a:pt x="21600" y="0"/>
                </a:moveTo>
                <a:lnTo>
                  <a:pt x="21600" y="39865"/>
                </a:lnTo>
                <a:lnTo>
                  <a:pt x="20200" y="38465"/>
                </a:lnTo>
                <a:lnTo>
                  <a:pt x="20200" y="1400"/>
                </a:lnTo>
                <a:close/>
              </a:path>
              <a:path fill="darkenLess" w="21600" h="39865">
                <a:moveTo>
                  <a:pt x="21600" y="39865"/>
                </a:moveTo>
                <a:lnTo>
                  <a:pt x="0" y="39865"/>
                </a:lnTo>
                <a:lnTo>
                  <a:pt x="1400" y="38465"/>
                </a:lnTo>
                <a:lnTo>
                  <a:pt x="20200" y="38465"/>
                </a:lnTo>
                <a:close/>
              </a:path>
              <a:path fill="lighten" w="21600" h="39865">
                <a:moveTo>
                  <a:pt x="0" y="39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38465"/>
                </a:lnTo>
                <a:close/>
              </a:path>
              <a:path fill="darken" w="21600" h="39865">
                <a:moveTo>
                  <a:pt x="3794" y="16625"/>
                </a:moveTo>
                <a:lnTo>
                  <a:pt x="7301" y="16625"/>
                </a:lnTo>
                <a:lnTo>
                  <a:pt x="7301" y="21961"/>
                </a:lnTo>
                <a:cubicBezTo>
                  <a:pt x="7301" y="22883"/>
                  <a:pt x="8102" y="23614"/>
                  <a:pt x="9138" y="23614"/>
                </a:cubicBezTo>
                <a:lnTo>
                  <a:pt x="10800" y="23614"/>
                </a:lnTo>
                <a:cubicBezTo>
                  <a:pt x="11836" y="23614"/>
                  <a:pt x="12636" y="22883"/>
                  <a:pt x="12636" y="21961"/>
                </a:cubicBezTo>
                <a:lnTo>
                  <a:pt x="12636" y="16625"/>
                </a:lnTo>
                <a:lnTo>
                  <a:pt x="10800" y="16625"/>
                </a:lnTo>
                <a:lnTo>
                  <a:pt x="14308" y="13118"/>
                </a:lnTo>
                <a:lnTo>
                  <a:pt x="17981" y="16625"/>
                </a:lnTo>
                <a:lnTo>
                  <a:pt x="16144" y="16625"/>
                </a:lnTo>
                <a:lnTo>
                  <a:pt x="16144" y="21961"/>
                </a:lnTo>
                <a:cubicBezTo>
                  <a:pt x="16144" y="24728"/>
                  <a:pt x="13568" y="27287"/>
                  <a:pt x="10800" y="27287"/>
                </a:cubicBezTo>
                <a:lnTo>
                  <a:pt x="9138" y="27287"/>
                </a:lnTo>
                <a:cubicBezTo>
                  <a:pt x="6370" y="27287"/>
                  <a:pt x="3794" y="24728"/>
                  <a:pt x="3794" y="21961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29"/>
          <p:cNvSpPr/>
          <p:nvPr/>
        </p:nvSpPr>
        <p:spPr>
          <a:xfrm>
            <a:off x="75438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WordArt 30"/>
          <p:cNvSpPr txBox="1"/>
          <p:nvPr/>
        </p:nvSpPr>
        <p:spPr>
          <a:xfrm>
            <a:off x="7924680" y="525780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返回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2" name="WordArt 34"/>
          <p:cNvSpPr txBox="1"/>
          <p:nvPr/>
        </p:nvSpPr>
        <p:spPr>
          <a:xfrm rot="16200000">
            <a:off x="7353360" y="3542760"/>
            <a:ext cx="2438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162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162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3" name="灯片编号占位符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F6E7-B1CC-415A-9F55-C918FC577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页脚占位符 3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47" name="Rectangle 4"/>
          <p:cNvSpPr/>
          <p:nvPr/>
        </p:nvSpPr>
        <p:spPr>
          <a:xfrm>
            <a:off x="-152280" y="0"/>
            <a:ext cx="929628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整体认读节音一般是指添加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声母后读音仍和韵母一样的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（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yuan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比较特殊），也就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指不用拼读即直接认读的音节，所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整体认读音节要直接读出，如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yi wu yu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AutoShape 5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D617-F813-474D-A2A4-BA97EF668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9" name="WordArt 6"/>
          <p:cNvSpPr txBox="1"/>
          <p:nvPr/>
        </p:nvSpPr>
        <p:spPr>
          <a:xfrm>
            <a:off x="1676520" y="762120"/>
            <a:ext cx="5790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请选择您要用的功能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60" name="AutoShape 7">
            <a:hlinkClick r:id="rId2" action="ppaction://hlinksldjump"/>
          </p:cNvPr>
          <p:cNvSpPr/>
          <p:nvPr/>
        </p:nvSpPr>
        <p:spPr>
          <a:xfrm>
            <a:off x="990720" y="1828800"/>
            <a:ext cx="1904760" cy="1295280"/>
          </a:xfrm>
          <a:custGeom>
            <a:avLst/>
            <a:gdLst>
              <a:gd name="textAreaLeft" fmla="*/ 83880 w 1904760"/>
              <a:gd name="textAreaRight" fmla="*/ 1820880 w 190476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1761" h="21600">
                <a:moveTo>
                  <a:pt x="0" y="0"/>
                </a:moveTo>
                <a:lnTo>
                  <a:pt x="31761" y="0"/>
                </a:lnTo>
                <a:lnTo>
                  <a:pt x="31761" y="21600"/>
                </a:lnTo>
                <a:lnTo>
                  <a:pt x="0" y="21600"/>
                </a:lnTo>
                <a:close/>
              </a:path>
              <a:path fill="lightenLess" w="31761" h="21600">
                <a:moveTo>
                  <a:pt x="0" y="0"/>
                </a:moveTo>
                <a:lnTo>
                  <a:pt x="31761" y="0"/>
                </a:lnTo>
                <a:lnTo>
                  <a:pt x="30361" y="1400"/>
                </a:lnTo>
                <a:lnTo>
                  <a:pt x="1400" y="1400"/>
                </a:lnTo>
                <a:close/>
              </a:path>
              <a:path fill="darken" w="31761" h="21600">
                <a:moveTo>
                  <a:pt x="31761" y="0"/>
                </a:moveTo>
                <a:lnTo>
                  <a:pt x="31761" y="21600"/>
                </a:lnTo>
                <a:lnTo>
                  <a:pt x="30361" y="20200"/>
                </a:lnTo>
                <a:lnTo>
                  <a:pt x="30361" y="1400"/>
                </a:lnTo>
                <a:close/>
              </a:path>
              <a:path fill="darkenLess" w="31761" h="21600">
                <a:moveTo>
                  <a:pt x="31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61" y="20200"/>
                </a:lnTo>
                <a:close/>
              </a:path>
              <a:path fill="lighten" w="31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61" h="21600">
                <a:moveTo>
                  <a:pt x="8874" y="3794"/>
                </a:moveTo>
                <a:lnTo>
                  <a:pt x="22887" y="10800"/>
                </a:lnTo>
                <a:lnTo>
                  <a:pt x="887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WordArt 8"/>
          <p:cNvSpPr txBox="1"/>
          <p:nvPr/>
        </p:nvSpPr>
        <p:spPr>
          <a:xfrm>
            <a:off x="3276000" y="2209680"/>
            <a:ext cx="1904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2" name="WordArt 9"/>
          <p:cNvSpPr txBox="1"/>
          <p:nvPr/>
        </p:nvSpPr>
        <p:spPr>
          <a:xfrm>
            <a:off x="3886200" y="2666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3" name="WordArt 10"/>
          <p:cNvSpPr txBox="1"/>
          <p:nvPr/>
        </p:nvSpPr>
        <p:spPr>
          <a:xfrm>
            <a:off x="5257800" y="1905120"/>
            <a:ext cx="914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导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64" name="AutoShape 11">
            <a:hlinkClick r:id="rId3" action="ppaction://hlinksldjump"/>
          </p:cNvPr>
          <p:cNvSpPr/>
          <p:nvPr/>
        </p:nvSpPr>
        <p:spPr>
          <a:xfrm>
            <a:off x="914400" y="3276720"/>
            <a:ext cx="1981080" cy="99036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WordArt 12"/>
          <p:cNvSpPr txBox="1"/>
          <p:nvPr/>
        </p:nvSpPr>
        <p:spPr>
          <a:xfrm rot="5400000">
            <a:off x="5410080" y="3429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学习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6" name="WordArt 13"/>
          <p:cNvSpPr txBox="1"/>
          <p:nvPr/>
        </p:nvSpPr>
        <p:spPr>
          <a:xfrm rot="10800000">
            <a:off x="5143680" y="38862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7" name="WordArt 14"/>
          <p:cNvSpPr txBox="1"/>
          <p:nvPr/>
        </p:nvSpPr>
        <p:spPr>
          <a:xfrm>
            <a:off x="3962520" y="3962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8" name="WordArt 15"/>
          <p:cNvSpPr txBox="1"/>
          <p:nvPr/>
        </p:nvSpPr>
        <p:spPr>
          <a:xfrm>
            <a:off x="5486400" y="441972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刷新</a:t>
            </a:r>
            <a:endParaRPr b="0" lang="en-US" sz="1800" spc="-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9" name="WordArt 16"/>
          <p:cNvSpPr txBox="1"/>
          <p:nvPr/>
        </p:nvSpPr>
        <p:spPr>
          <a:xfrm rot="10800000">
            <a:off x="5143680" y="49528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0" name="AutoShape 18">
            <a:hlinkClick r:id="rId8" action="ppaction://hlinksldjump"/>
          </p:cNvPr>
          <p:cNvSpPr/>
          <p:nvPr/>
        </p:nvSpPr>
        <p:spPr>
          <a:xfrm>
            <a:off x="9144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089" h="21600">
                <a:moveTo>
                  <a:pt x="24545" y="3837"/>
                </a:moveTo>
                <a:lnTo>
                  <a:pt x="27121" y="6448"/>
                </a:lnTo>
                <a:lnTo>
                  <a:pt x="27121" y="4707"/>
                </a:lnTo>
                <a:lnTo>
                  <a:pt x="28896" y="4707"/>
                </a:lnTo>
                <a:lnTo>
                  <a:pt x="28896" y="8224"/>
                </a:lnTo>
                <a:lnTo>
                  <a:pt x="31508" y="10800"/>
                </a:lnTo>
                <a:lnTo>
                  <a:pt x="29854" y="10800"/>
                </a:lnTo>
                <a:lnTo>
                  <a:pt x="29854" y="17989"/>
                </a:lnTo>
                <a:lnTo>
                  <a:pt x="19235" y="17989"/>
                </a:lnTo>
                <a:lnTo>
                  <a:pt x="19235" y="10800"/>
                </a:lnTo>
                <a:lnTo>
                  <a:pt x="17582" y="10800"/>
                </a:lnTo>
                <a:close/>
              </a:path>
              <a:path fill="darkenLess" w="49089" h="21600">
                <a:moveTo>
                  <a:pt x="27121" y="6448"/>
                </a:moveTo>
                <a:lnTo>
                  <a:pt x="27121" y="4707"/>
                </a:lnTo>
                <a:lnTo>
                  <a:pt x="28896" y="4707"/>
                </a:lnTo>
                <a:lnTo>
                  <a:pt x="28896" y="8224"/>
                </a:lnTo>
                <a:close/>
              </a:path>
              <a:path fill="darkenLess" w="49089" h="21600">
                <a:moveTo>
                  <a:pt x="23622" y="14299"/>
                </a:moveTo>
                <a:lnTo>
                  <a:pt x="25467" y="14299"/>
                </a:lnTo>
                <a:lnTo>
                  <a:pt x="25467" y="17989"/>
                </a:lnTo>
                <a:lnTo>
                  <a:pt x="29854" y="17989"/>
                </a:lnTo>
                <a:lnTo>
                  <a:pt x="29854" y="10800"/>
                </a:lnTo>
                <a:lnTo>
                  <a:pt x="19235" y="10800"/>
                </a:lnTo>
                <a:lnTo>
                  <a:pt x="19235" y="17989"/>
                </a:lnTo>
                <a:lnTo>
                  <a:pt x="23622" y="1798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WordArt 19"/>
          <p:cNvSpPr txBox="1"/>
          <p:nvPr/>
        </p:nvSpPr>
        <p:spPr>
          <a:xfrm>
            <a:off x="3962520" y="4876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2" name="AutoShape 20">
            <a:hlinkClick r:id="rId9" action="ppaction://hlinksldjump"/>
          </p:cNvPr>
          <p:cNvSpPr/>
          <p:nvPr/>
        </p:nvSpPr>
        <p:spPr>
          <a:xfrm>
            <a:off x="3429000" y="5638680"/>
            <a:ext cx="5334120" cy="990720"/>
          </a:xfrm>
          <a:custGeom>
            <a:avLst/>
            <a:gdLst>
              <a:gd name="textAreaLeft" fmla="*/ 64080 w 5334120"/>
              <a:gd name="textAreaRight" fmla="*/ 5270040 w 53341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6262" h="21600">
                <a:moveTo>
                  <a:pt x="0" y="0"/>
                </a:moveTo>
                <a:lnTo>
                  <a:pt x="116262" y="0"/>
                </a:lnTo>
                <a:lnTo>
                  <a:pt x="116262" y="21600"/>
                </a:lnTo>
                <a:lnTo>
                  <a:pt x="0" y="21600"/>
                </a:lnTo>
                <a:close/>
              </a:path>
              <a:path fill="lightenLess" w="116262" h="21600">
                <a:moveTo>
                  <a:pt x="0" y="0"/>
                </a:moveTo>
                <a:lnTo>
                  <a:pt x="116262" y="0"/>
                </a:lnTo>
                <a:lnTo>
                  <a:pt x="114862" y="1400"/>
                </a:lnTo>
                <a:lnTo>
                  <a:pt x="1400" y="1400"/>
                </a:lnTo>
                <a:close/>
              </a:path>
              <a:path fill="darken" w="116262" h="21600">
                <a:moveTo>
                  <a:pt x="116262" y="0"/>
                </a:moveTo>
                <a:lnTo>
                  <a:pt x="116262" y="21600"/>
                </a:lnTo>
                <a:lnTo>
                  <a:pt x="114862" y="20200"/>
                </a:lnTo>
                <a:lnTo>
                  <a:pt x="114862" y="1400"/>
                </a:lnTo>
                <a:close/>
              </a:path>
              <a:path fill="darkenLess" w="116262" h="21600">
                <a:moveTo>
                  <a:pt x="116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4862" y="20200"/>
                </a:lnTo>
                <a:close/>
              </a:path>
              <a:path fill="lighten" w="116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更多内容（含复习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Object 25" descr=""/>
          <p:cNvPicPr/>
          <p:nvPr/>
        </p:nvPicPr>
        <p:blipFill>
          <a:blip r:embed="rId10"/>
          <a:stretch/>
        </p:blipFill>
        <p:spPr>
          <a:xfrm>
            <a:off x="4243320" y="7543800"/>
            <a:ext cx="6096240" cy="30960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26" descr="三个兔子手拉手"/>
          <p:cNvPicPr/>
          <p:nvPr/>
        </p:nvPicPr>
        <p:blipFill>
          <a:blip r:embed="rId11"/>
          <a:stretch/>
        </p:blipFill>
        <p:spPr>
          <a:xfrm>
            <a:off x="-304920" y="-1309680"/>
            <a:ext cx="9753840" cy="9477360"/>
          </a:xfrm>
          <a:prstGeom prst="rect">
            <a:avLst/>
          </a:prstGeom>
          <a:ln w="0">
            <a:noFill/>
          </a:ln>
        </p:spPr>
      </p:pic>
      <p:sp>
        <p:nvSpPr>
          <p:cNvPr id="1175" name="灯片编号占位符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07C4-B75F-4F7C-BC77-917C7426C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页脚占位符 2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1045"/>
          <p:cNvSpPr/>
          <p:nvPr/>
        </p:nvSpPr>
        <p:spPr>
          <a:xfrm>
            <a:off x="157320" y="-1066680"/>
            <a:ext cx="36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矩形 1046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矩形 1047"/>
          <p:cNvSpPr/>
          <p:nvPr/>
        </p:nvSpPr>
        <p:spPr>
          <a:xfrm>
            <a:off x="476280" y="451800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4"/>
          <p:cNvSpPr/>
          <p:nvPr/>
        </p:nvSpPr>
        <p:spPr>
          <a:xfrm>
            <a:off x="533520" y="228600"/>
            <a:ext cx="4876560" cy="2514600"/>
          </a:xfrm>
          <a:prstGeom prst="rect">
            <a:avLst/>
          </a:prstGeom>
          <a:solidFill>
            <a:srgbClr val="ff6600">
              <a:alpha val="55000"/>
            </a:srgbClr>
          </a:solidFill>
          <a:ln w="76320">
            <a:solidFill>
              <a:srgbClr val="007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7673"/>
                </a:solidFill>
                <a:latin typeface="Arial"/>
                <a:ea typeface="方正姚体"/>
              </a:rPr>
              <a:t>导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5"/>
          <p:cNvSpPr/>
          <p:nvPr/>
        </p:nvSpPr>
        <p:spPr>
          <a:xfrm>
            <a:off x="1676520" y="3048120"/>
            <a:ext cx="5181480" cy="3581280"/>
          </a:xfrm>
          <a:prstGeom prst="rect">
            <a:avLst/>
          </a:prstGeom>
          <a:solidFill>
            <a:srgbClr val="ffff00">
              <a:alpha val="55000"/>
            </a:srgbClr>
          </a:solidFill>
          <a:ln w="38160">
            <a:solidFill>
              <a:srgbClr val="007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今天学习的是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8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拼音，分别是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韵母、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2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声母，和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方正姚体"/>
                <a:ea typeface="方正姚体"/>
                <a:hlinkClick r:id="rId1" action="ppaction://hlinksldjump"/>
              </a:rPr>
              <a:t>整体认读音节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（若不明白整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方正姚体"/>
                <a:ea typeface="方正姚体"/>
                <a:hlinkClick r:id="rId2" action="ppaction://hlinksldjump"/>
              </a:rPr>
              <a:t>体认读音节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点击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方正姚体"/>
                <a:ea typeface="方正姚体"/>
                <a:hlinkClick r:id="rId3" action="ppaction://hlinksldjump"/>
              </a:rPr>
              <a:t>整体认读音节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6">
            <a:hlinkClick r:id="rId4" action="ppaction://hlinksldjump"/>
          </p:cNvPr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灯片编号占位符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AA26-4FDD-478C-B6FD-04708D005FE2}" type="slidenum">
              <a:rPr b="0" lang="en-US" sz="1200" spc="-1" strike="noStrike">
                <a:solidFill>
                  <a:srgbClr val="0076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页脚占位符 7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5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569592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7" descr="《汉语拼音 2》i插图"/>
          <p:cNvPicPr/>
          <p:nvPr/>
        </p:nvPicPr>
        <p:blipFill>
          <a:blip r:embed="rId4"/>
          <a:stretch/>
        </p:blipFill>
        <p:spPr>
          <a:xfrm>
            <a:off x="457200" y="380880"/>
            <a:ext cx="4114800" cy="3124440"/>
          </a:xfrm>
          <a:prstGeom prst="rect">
            <a:avLst/>
          </a:prstGeom>
          <a:ln w="0">
            <a:noFill/>
          </a:ln>
        </p:spPr>
      </p:pic>
      <p:sp>
        <p:nvSpPr>
          <p:cNvPr id="1189" name="WordArt 8"/>
          <p:cNvSpPr txBox="1"/>
          <p:nvPr/>
        </p:nvSpPr>
        <p:spPr>
          <a:xfrm>
            <a:off x="4800600" y="685800"/>
            <a:ext cx="3162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0" name="WordArt 9"/>
          <p:cNvSpPr txBox="1"/>
          <p:nvPr/>
        </p:nvSpPr>
        <p:spPr>
          <a:xfrm>
            <a:off x="1523880" y="3352680"/>
            <a:ext cx="144792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衣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1" name="Text Box 10"/>
          <p:cNvSpPr/>
          <p:nvPr/>
        </p:nvSpPr>
        <p:spPr>
          <a:xfrm>
            <a:off x="3352680" y="3352680"/>
            <a:ext cx="4800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99"/>
                </a:solidFill>
                <a:latin typeface="zypyyb"/>
                <a:ea typeface="zypyyb"/>
              </a:rPr>
              <a:t>一件衣服，嘴巴扁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zypyyb"/>
                <a:ea typeface="zypyyb"/>
              </a:rPr>
              <a:t>iii</a:t>
            </a:r>
            <a:r>
              <a:rPr b="0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小棍头上有一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Picture 11" descr="c80e42ee4c9091d5b3fb95a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467480" y="14479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193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7CF4-F9C9-4AE8-95CA-60EFFB98C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Picture 6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196" name="Line 10"/>
          <p:cNvSpPr/>
          <p:nvPr/>
        </p:nvSpPr>
        <p:spPr>
          <a:xfrm>
            <a:off x="380880" y="62485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2"/>
          <p:cNvSpPr/>
          <p:nvPr/>
        </p:nvSpPr>
        <p:spPr>
          <a:xfrm>
            <a:off x="380880" y="6094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18"/>
          <p:cNvSpPr/>
          <p:nvPr/>
        </p:nvSpPr>
        <p:spPr>
          <a:xfrm>
            <a:off x="3581280" y="2666880"/>
            <a:ext cx="381240" cy="175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20"/>
          <p:cNvSpPr/>
          <p:nvPr/>
        </p:nvSpPr>
        <p:spPr>
          <a:xfrm>
            <a:off x="3581280" y="1828800"/>
            <a:ext cx="381240" cy="38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21"/>
          <p:cNvSpPr/>
          <p:nvPr/>
        </p:nvSpPr>
        <p:spPr>
          <a:xfrm>
            <a:off x="380880" y="26668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22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23"/>
          <p:cNvSpPr/>
          <p:nvPr/>
        </p:nvSpPr>
        <p:spPr>
          <a:xfrm>
            <a:off x="4114800" y="2743200"/>
            <a:ext cx="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27"/>
          <p:cNvSpPr/>
          <p:nvPr/>
        </p:nvSpPr>
        <p:spPr>
          <a:xfrm>
            <a:off x="4343400" y="3352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29"/>
          <p:cNvSpPr/>
          <p:nvPr/>
        </p:nvSpPr>
        <p:spPr>
          <a:xfrm>
            <a:off x="4038480" y="1523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890F-CFCB-452A-BDAF-AC2164A73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4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229600" cy="569592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5" descr="《汉语拼音 2》u插图"/>
          <p:cNvPicPr/>
          <p:nvPr/>
        </p:nvPicPr>
        <p:blipFill>
          <a:blip r:embed="rId3"/>
          <a:stretch/>
        </p:blipFill>
        <p:spPr>
          <a:xfrm>
            <a:off x="457200" y="380880"/>
            <a:ext cx="4876920" cy="3200400"/>
          </a:xfrm>
          <a:prstGeom prst="rect">
            <a:avLst/>
          </a:prstGeom>
          <a:ln w="0">
            <a:noFill/>
          </a:ln>
        </p:spPr>
      </p:pic>
      <p:sp>
        <p:nvSpPr>
          <p:cNvPr id="1209" name="WordArt 6"/>
          <p:cNvSpPr txBox="1"/>
          <p:nvPr/>
        </p:nvSpPr>
        <p:spPr>
          <a:xfrm>
            <a:off x="5334120" y="1219320"/>
            <a:ext cx="20955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u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10" name="WordArt 7"/>
          <p:cNvSpPr txBox="1"/>
          <p:nvPr/>
        </p:nvSpPr>
        <p:spPr>
          <a:xfrm>
            <a:off x="1523880" y="3657600"/>
            <a:ext cx="22100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1" name="Text Box 8"/>
          <p:cNvSpPr/>
          <p:nvPr/>
        </p:nvSpPr>
        <p:spPr>
          <a:xfrm>
            <a:off x="4495680" y="4038480"/>
            <a:ext cx="3429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乌鸦啼叫，嘴巴突出，</a:t>
            </a:r>
            <a:r>
              <a:rPr b="1" lang="en-US" sz="4000" spc="-1" strike="noStrike">
                <a:solidFill>
                  <a:srgbClr val="ff3399"/>
                </a:solidFill>
                <a:latin typeface="zypyyb"/>
                <a:ea typeface="zypyyb"/>
              </a:rPr>
              <a:t>uuu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2" name="Picture 9" descr="c80e42ee4c9091d5b3fb95a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96080" y="160020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13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9F68-278B-4A4C-8D2F-A3DB9CC7B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Picture 4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16" name="Line 5"/>
          <p:cNvSpPr/>
          <p:nvPr/>
        </p:nvSpPr>
        <p:spPr>
          <a:xfrm>
            <a:off x="380880" y="6094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7"/>
          <p:cNvSpPr/>
          <p:nvPr/>
        </p:nvSpPr>
        <p:spPr>
          <a:xfrm>
            <a:off x="380880" y="62485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9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WordArt 14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1" name="Line 15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20"/>
          <p:cNvSpPr/>
          <p:nvPr/>
        </p:nvSpPr>
        <p:spPr>
          <a:xfrm>
            <a:off x="3505320" y="19810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21"/>
          <p:cNvSpPr/>
          <p:nvPr/>
        </p:nvSpPr>
        <p:spPr>
          <a:xfrm>
            <a:off x="5257800" y="4114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22"/>
          <p:cNvSpPr/>
          <p:nvPr/>
        </p:nvSpPr>
        <p:spPr>
          <a:xfrm>
            <a:off x="5029200" y="2819520"/>
            <a:ext cx="0" cy="15238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23"/>
          <p:cNvSpPr/>
          <p:nvPr/>
        </p:nvSpPr>
        <p:spPr>
          <a:xfrm flipV="1">
            <a:off x="4495680" y="2438280"/>
            <a:ext cx="304920" cy="1447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24"/>
          <p:cNvSpPr/>
          <p:nvPr/>
        </p:nvSpPr>
        <p:spPr>
          <a:xfrm>
            <a:off x="4114800" y="2590920"/>
            <a:ext cx="380880" cy="12952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8D2C-2D4A-449F-AC09-CAD315E32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Picture 6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30" name="WordArt 8"/>
          <p:cNvSpPr txBox="1"/>
          <p:nvPr/>
        </p:nvSpPr>
        <p:spPr>
          <a:xfrm>
            <a:off x="838080" y="4191120"/>
            <a:ext cx="2286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淤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1" name="Text Box 9"/>
          <p:cNvSpPr/>
          <p:nvPr/>
        </p:nvSpPr>
        <p:spPr>
          <a:xfrm>
            <a:off x="4114800" y="3962520"/>
            <a:ext cx="3809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zypyyb"/>
                <a:ea typeface="zypyyb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像兄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zypyyb"/>
                <a:ea typeface="zypyyb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头上没有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zypyyb"/>
              </a:rPr>
              <a:t>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头上有两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13" descr="《汉语拼音 2》ü插图"/>
          <p:cNvPicPr/>
          <p:nvPr/>
        </p:nvPicPr>
        <p:blipFill>
          <a:blip r:embed="rId5"/>
          <a:stretch/>
        </p:blipFill>
        <p:spPr>
          <a:xfrm>
            <a:off x="304920" y="533520"/>
            <a:ext cx="3200400" cy="3047760"/>
          </a:xfrm>
          <a:prstGeom prst="rect">
            <a:avLst/>
          </a:prstGeom>
          <a:ln w="0">
            <a:noFill/>
          </a:ln>
        </p:spPr>
      </p:pic>
      <p:sp>
        <p:nvSpPr>
          <p:cNvPr id="1233" name="WordArt 14"/>
          <p:cNvSpPr txBox="1"/>
          <p:nvPr/>
        </p:nvSpPr>
        <p:spPr>
          <a:xfrm>
            <a:off x="3505320" y="1371600"/>
            <a:ext cx="19047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6400800" y="838080"/>
            <a:ext cx="12952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小鱼吐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嘴巴也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黑体"/>
              </a:rPr>
              <a:t>üüü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16" descr="c80e42ee4c9091d5b3fb95a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297180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36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FFE8-9585-4FB3-A802-7DB072483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6T21:42:37Z</dcterms:created>
  <dc:creator/>
  <dc:description/>
  <cp:keywords/>
  <dc:language>en-US</dc:language>
  <cp:lastModifiedBy>User</cp:lastModifiedBy>
  <dcterms:modified xsi:type="dcterms:W3CDTF">2016-10-05T11:55:59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  <property fmtid="{D5CDD505-2E9C-101B-9397-08002B2CF9AE}" pid="3" name="Version">
    <vt:r8>1</vt:r8>
  </property>
</Properties>
</file>